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882-1DD6-4D43-AA7A-402D276C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509-109F-4B66-8D6A-F8E502E6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338-7D27-47FB-8F1D-99EE898E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F3B-5AB2-461E-ABF7-5FF5CE2D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D90B-F87C-4ADF-B8C1-74358A52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B64F-1A0D-4BB9-B432-76CF2DC5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EAC8-DDCB-47C7-BF2F-312258EE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4DDE-E07A-4798-B41D-0D0A6D35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5F34-1F5D-4473-8766-F7A3654A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D000-EAF9-4EC7-810F-5C402D4A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4982-D3BF-470C-9DF1-B3FFD239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304-1736-421F-861D-D62B98E5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CEF3-1F80-453D-84EA-0F0ECC78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9EBC-F141-464A-94AB-2EB3ECD3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BA8F-7C33-4888-A26A-19B970E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4A51-609F-4ECE-9A62-64FBD49A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E339-0286-4E43-8A7F-9C1497E2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235-C387-4A08-A8EF-7819409C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1F3-58B4-4429-8742-072425B1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4DB-77EC-44C4-8801-4F94494A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49E-12AB-4558-B3AC-0A4EA437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CC2-B863-4C14-97C5-92FFE97C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0FA-3C92-4BD6-930C-47FC1616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540-B012-44C9-9B8C-7EE67C6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EDD5-D98B-4CEE-9795-8752E11A6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907B-196A-453C-94AC-1B8FCB7E4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drock Architectural Q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n Going Discussion of Architectural Issues in the Redrock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for “Design by Contrac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1135080" cy="1592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86600" y="2971800"/>
            <a:ext cx="1135080" cy="159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76720" y="2743200"/>
            <a:ext cx="2349360" cy="240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52480" y="53341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ent 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1280" y="52578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7400" y="53341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10080" y="38862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8862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78960" y="33847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21600" y="33847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“Design by Contract”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ation and contract (interface) can be developed at different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lient developer doesn’t have to wait for the implementation developer to finish implemen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s workflow bottlenecks when working with depend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ystem components can be developed in parallel yielding better through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for multiple implementations of the contr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971800"/>
            <a:ext cx="2133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ract (Interfa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429000"/>
            <a:ext cx="1219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op Pro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5791320"/>
            <a:ext cx="2895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191120"/>
            <a:ext cx="175248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moting Pro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886200"/>
            <a:ext cx="175248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ck Proxy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t Te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5791320"/>
            <a:ext cx="281916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Tw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35812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5791320"/>
            <a:ext cx="251460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Th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409720" y="3580920"/>
            <a:ext cx="2133720" cy="22100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790960" y="3276360"/>
            <a:ext cx="1981080" cy="609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86000" y="3352320"/>
            <a:ext cx="1371600" cy="3049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09680" y="3886200"/>
            <a:ext cx="0" cy="1828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334120" y="464796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600" y="3962520"/>
            <a:ext cx="209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curity Asp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ception Handling Asp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erformance Metr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mory Metr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2000" y="4724280"/>
            <a:ext cx="208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jb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ml text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ml binary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Java serialization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b services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00440" y="274320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81640" y="2622600"/>
            <a:ext cx="164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Means implemen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lows for Restricted Roles in Object Desig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s implementation developer freedom to extend an implementing object beyond an interface contr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ricts roles to client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4191120"/>
            <a:ext cx="167652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Valid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read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write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4191120"/>
            <a:ext cx="25146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chemaSymbolMapProvi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SymbolMap(k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5410080"/>
            <a:ext cx="1676160" cy="1295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Reg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Registry(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read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write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SymbolMap(k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4114800"/>
            <a:ext cx="16765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Xml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Id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VhimVersio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486400"/>
            <a:ext cx="1676520" cy="129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mlFil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Xml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Id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VhimVersio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ahoma"/>
              </a:rPr>
              <a:t>setSomeDependency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52574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486040" y="5181120"/>
            <a:ext cx="1600200" cy="228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86600" y="5105520"/>
            <a:ext cx="609480" cy="3045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5:12:31Z</dcterms:created>
  <dc:creator>CACI</dc:creator>
  <dc:description/>
  <dc:language>en-US</dc:language>
  <cp:lastModifiedBy>CACI</cp:lastModifiedBy>
  <dcterms:modified xsi:type="dcterms:W3CDTF">2006-10-18T19:22:04Z</dcterms:modified>
  <cp:revision>7</cp:revision>
  <dc:subject/>
  <dc:title>Redrock I8 Code Review</dc:title>
</cp:coreProperties>
</file>